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41515"/>
        <c:axId val="39421539"/>
      </c:barChart>
      <c:catAx>
        <c:axId val="332415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21539"/>
        <c:crosses val="autoZero"/>
        <c:auto val="1"/>
        <c:lblAlgn val="ctr"/>
        <c:lblOffset val="100"/>
        <c:noMultiLvlLbl val="0"/>
      </c:catAx>
      <c:valAx>
        <c:axId val="394215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415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E3D7-0F77-4338-AC47-C32E15C4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71FE-2691-4AD7-8DCD-65A7E5A5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7B06-F920-4B5C-AA90-E2655C2E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6645-117D-47DA-8E02-D32E4571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F59D-5C12-4B55-BC98-6909DFEE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24C1-1A30-41D7-9C90-75896B70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D704-D839-4113-A532-B13EE268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D935-3D9B-413B-88D7-347BFA61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6880-16E6-41C5-BA36-4405AD9E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0B3A-C2E2-44AF-B104-48071BB6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B3DE-0753-4302-AE57-D831A36E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AE92-E9BA-492D-A7D4-980E9033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92AA2-95E2-4630-A685-C8FB872947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