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3522"/>
        <c:axId val="71507690"/>
      </c:barChart>
      <c:catAx>
        <c:axId val="69773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7690"/>
        <c:crosses val="autoZero"/>
        <c:auto val="1"/>
        <c:lblAlgn val="ctr"/>
        <c:lblOffset val="100"/>
        <c:noMultiLvlLbl val="0"/>
      </c:catAx>
      <c:valAx>
        <c:axId val="71507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3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112-E99A-426A-BE34-B84D13A6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0F0-75B1-4266-8F81-BDDCBA8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ACC-1F04-43A9-AB30-388A3C8D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E5A-211B-4042-A235-02E12229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F0C-9DF5-49FD-93E3-A4B4E1B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867-79BA-47DE-9AB4-5A8EE6A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D5D-1BA3-453D-83B6-31AEB61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AB7-947C-43F3-A5C7-0FD38BC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8C4-12A1-4AD6-86C9-1B9AC85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5F9-E633-4882-8456-F98F749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AB3-5C7D-4F94-8613-6FACF37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0B8-7C44-4AC9-8C61-75DD48B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4A432-7459-42E9-9EFD-3B5C7DF60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