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46804"/>
        <c:axId val="37905207"/>
      </c:barChart>
      <c:catAx>
        <c:axId val="80046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5207"/>
        <c:crosses val="autoZero"/>
        <c:auto val="1"/>
        <c:lblAlgn val="ctr"/>
        <c:lblOffset val="100"/>
        <c:noMultiLvlLbl val="0"/>
      </c:catAx>
      <c:valAx>
        <c:axId val="37905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6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FDD-75B4-487C-9B19-A91E28DE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646-6363-4F37-8EF4-BAE0B6E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74F-F690-4A52-AD47-FEA5DC20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4E6-8F05-495A-845A-29BAB642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532-B662-455C-A33A-45CB151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444-FF1B-430B-B9E4-CBA3696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BE3-A92E-4F3B-982D-9B6C7CC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7F7-8783-4EFC-BED8-F9345FD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C68-9473-4731-8797-6AF64444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860-7674-41F6-95D6-D7DD065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9AE-9F87-45E9-8BBD-5232DCB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503-45F6-432C-865B-BAFB5D12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2827A-5EFD-43A5-A209-EB4ABD4CF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