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29338"/>
        <c:axId val="61948558"/>
      </c:barChart>
      <c:catAx>
        <c:axId val="24629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48558"/>
        <c:crosses val="autoZero"/>
        <c:auto val="1"/>
        <c:lblAlgn val="ctr"/>
        <c:lblOffset val="100"/>
        <c:noMultiLvlLbl val="0"/>
      </c:catAx>
      <c:valAx>
        <c:axId val="61948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29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B412-5A5E-4673-B505-B69BFAE9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25CE-245B-4B40-9885-83DCC97C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6CF-6414-46F8-9ED7-FF5892FC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1F52-85B0-4751-B849-3D6F7F98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F37-D2BD-4E9E-A4AD-CE33C1FB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2A20-DA79-429E-AC39-8B500A92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D24-0938-4C09-944A-1726FFA4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0EE-8AAC-4292-9498-4121B40C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A9DE-35E5-4F45-A2A5-C3280A3A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864C-6413-45C3-A550-E6FDA7EA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DB2-30CF-4C2A-A35D-22455430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A85-C4BC-4721-A7A2-D4F8F43A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E77F8-F4C3-4A36-88C2-DAFAC83C8F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