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32579"/>
        <c:axId val="5878716"/>
      </c:barChart>
      <c:catAx>
        <c:axId val="62325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8716"/>
        <c:crosses val="autoZero"/>
        <c:auto val="1"/>
        <c:lblAlgn val="ctr"/>
        <c:lblOffset val="100"/>
        <c:noMultiLvlLbl val="0"/>
      </c:catAx>
      <c:valAx>
        <c:axId val="58787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25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8CA3-282B-48D6-A4C5-4BFC8EC0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DDE1-24FB-4C8D-99D2-43124CF4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B74A-FD8D-40EC-9563-ECAF245B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0A3E-8301-46B4-A131-81491A20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D5D6-106D-4A77-A829-AE135F47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FB3C-9C9F-4187-84B8-9A4E38F8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9DC0-B5FA-48A1-86F4-AF64359A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6E89-D08F-4080-B135-2193FE66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E21B-3E32-4B42-AA52-455C581A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1129-06D7-418F-86BF-7C2AFAE5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AECF-AF57-4649-BEEB-D88B0ECC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F4F7-E81E-4548-9EE3-58A78FA0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8C2FF-E2C7-42C6-9E40-4C374BC562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