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53013"/>
        <c:axId val="40628698"/>
      </c:barChart>
      <c:catAx>
        <c:axId val="27253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28698"/>
        <c:crosses val="autoZero"/>
        <c:auto val="1"/>
        <c:lblAlgn val="ctr"/>
        <c:lblOffset val="100"/>
        <c:noMultiLvlLbl val="0"/>
      </c:catAx>
      <c:valAx>
        <c:axId val="406286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53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1E6-6202-4C3A-9F01-EFC3D66C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C8E-E8F6-465B-A049-8732601A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2BAC-A888-4465-9D11-E46BFC24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B9A-D0DE-4790-81EA-925A81FA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16B-0459-4055-B4A5-2CAE942B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34C-D4D4-4B88-9262-42D918C9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E826-D284-4291-88C8-FDED9F0D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C50-057B-4AE8-8CA8-5DD711FC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74B-9161-498B-8250-E0B98F9F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BDC3-ADA8-4FEC-829F-6C9AB78E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D07-42D5-44E3-A69F-C214052A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29A-D36F-416D-AD55-67E98E78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39A40-A220-4919-91E4-1366B89BEC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