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81573"/>
        <c:axId val="96412896"/>
      </c:barChart>
      <c:catAx>
        <c:axId val="44681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12896"/>
        <c:crosses val="autoZero"/>
        <c:auto val="1"/>
        <c:lblAlgn val="ctr"/>
        <c:lblOffset val="100"/>
        <c:noMultiLvlLbl val="0"/>
      </c:catAx>
      <c:valAx>
        <c:axId val="96412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81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E2C-633A-4B95-A95C-184E065D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55F-918E-4235-8A2D-5832B57B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391-1C5C-4613-9011-B367B49E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5F9-12B6-45FC-9CDD-2CC4E4BE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49E-9E07-4B63-AE08-4F5F9759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A9B-5471-4E1B-8951-C1189C73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888-CDF0-42E9-90A3-93C70BC9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577-7204-462F-A075-0AC3E127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76C-FCBC-4969-8ACE-5E29DE0E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60C-F5B6-4EDD-8F1F-41B8CDD9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09C-A81D-44F2-9DCB-9E018213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58C-E48E-4E17-BC42-4683ED7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612DD-4E93-427D-83C5-C330BC03B2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