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9344"/>
        <c:axId val="78720974"/>
      </c:barChart>
      <c:catAx>
        <c:axId val="5239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20974"/>
        <c:crosses val="autoZero"/>
        <c:auto val="1"/>
        <c:lblAlgn val="ctr"/>
        <c:lblOffset val="100"/>
        <c:noMultiLvlLbl val="0"/>
      </c:catAx>
      <c:valAx>
        <c:axId val="78720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9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E21-D4BA-43B6-A3F1-54AEF3BE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CEE-B827-4DE6-B186-81FF558E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062-5235-4B57-87C1-8A11D16B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AE06-CF21-4989-9D9C-A782D7C4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A46-ACDB-4DDD-B260-F64899F8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0D71-F888-4F38-8BB8-92632FF0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DA95-92BB-4332-8170-EDAE20C3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92C-EE6C-4E4A-8604-F1D505E1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CE7F-2A60-48FF-8EB0-6248F303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044-23AD-4B29-9F1E-4004FFBA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C5D-B0C0-41B9-823A-BACD8ACA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6B1E-A1D2-4B91-B5BB-B88253E0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EAEFE-FAF4-413C-8828-133D71B773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