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481839"/>
        <c:axId val="38777187"/>
      </c:barChart>
      <c:catAx>
        <c:axId val="854818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7187"/>
        <c:crosses val="autoZero"/>
        <c:auto val="1"/>
        <c:lblAlgn val="ctr"/>
        <c:lblOffset val="100"/>
        <c:noMultiLvlLbl val="0"/>
      </c:catAx>
      <c:valAx>
        <c:axId val="387771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4818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79E3-1A3B-466B-985E-83D89D4BE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27C9-E64A-4D99-8B77-E9D0F942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5959-B3C0-4544-AABD-A1ABFD670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631-1745-4C58-A321-692E5EC9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2466-77B7-43D9-887A-347F8807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740-2941-4857-9E46-95298A977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23D1-A22E-4D21-BF9B-A95FEC44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0A6B9-C88E-4966-8F6A-12F245BD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3D5C-4D6C-4999-8306-E9B956F44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23A-2FE0-4D5F-913B-0C04A6C5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DC5-679D-4A73-9763-B1628140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A75B-40B4-4AF2-8E27-4626A08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943D6A-9D20-4ECF-9D66-74C5773802E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