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631694"/>
        <c:axId val="69473722"/>
      </c:barChart>
      <c:catAx>
        <c:axId val="376316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73722"/>
        <c:crosses val="autoZero"/>
        <c:auto val="1"/>
        <c:lblAlgn val="ctr"/>
        <c:lblOffset val="100"/>
        <c:noMultiLvlLbl val="0"/>
      </c:catAx>
      <c:valAx>
        <c:axId val="69473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316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B81-24B0-492F-B71C-4DB121EA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10E-6C70-457A-BB51-909AD1CD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B52-C124-4521-A6FA-F90900AF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F8C-F5CC-4E0F-BCEC-2A409E4A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64B-956A-4EA4-B8B5-DE5010BB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8774-9A12-4DF1-96F9-8A38C3F0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936-7CC5-4DB3-A450-0D7E57F9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30D-E5C8-4DC0-9597-59E1CDA7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F63-7FE1-4EA9-87D1-5DEF77C1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B369-8A61-43A3-8BEC-13639991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983-F10D-4E63-8392-93B45879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47D-C448-41D2-B8B4-CCD0B879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30759-C341-42D4-9162-6313F9A61B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