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05374"/>
        <c:axId val="66290353"/>
      </c:barChart>
      <c:catAx>
        <c:axId val="49905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90353"/>
        <c:crosses val="autoZero"/>
        <c:auto val="1"/>
        <c:lblAlgn val="ctr"/>
        <c:lblOffset val="100"/>
        <c:noMultiLvlLbl val="0"/>
      </c:catAx>
      <c:valAx>
        <c:axId val="66290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5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29D-BF45-4985-B464-80585F34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841-2295-426F-962D-622152FB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847-C052-4356-9D5A-BB06AB8A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2E9-0678-4EF9-A842-00B2F76A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A48-348E-4854-BFB4-F0BFD1C1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970-B564-4262-A5A9-045B063E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E1D-001E-4099-8A04-9787E1D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24E-DE3E-4489-AE8C-C26E2B1F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CF6-0C79-4708-91B4-82A4614B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0D7-0E9C-4890-B6A7-ADEC05B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629-E0A7-4183-B40D-3A3396A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A5A-B7CF-4B6C-885D-DCB2A017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E58D0-D103-41A3-B5AA-F9FFD5A1F2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