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18137"/>
        <c:axId val="36503710"/>
      </c:barChart>
      <c:catAx>
        <c:axId val="78618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3710"/>
        <c:crosses val="autoZero"/>
        <c:auto val="1"/>
        <c:lblAlgn val="ctr"/>
        <c:lblOffset val="100"/>
        <c:noMultiLvlLbl val="0"/>
      </c:catAx>
      <c:valAx>
        <c:axId val="36503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18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DC6-AA13-4336-9FA7-B2214F1A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D97-F404-41CD-861F-DFDACE89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5A7-AD94-4C02-8135-91F367B2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D1F-D8FC-4662-81EF-769046D7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05C-C600-42E7-834E-EA85BAE5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5BC-474B-491B-A6B1-41944CC6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B34-3ECA-4766-9790-8D0B7F8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0CE-A331-4F87-A81B-5D87C1A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3D5-1339-44C0-AE3E-20363483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C6F-63B1-413F-AFAE-C0B40E0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54E-9F15-48EA-ABF5-E96B618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6B1-0B92-4E0D-8709-64885E7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61BF0-2455-4A9F-9504-EF7B30237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