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34073"/>
        <c:axId val="17356835"/>
      </c:barChart>
      <c:catAx>
        <c:axId val="24134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6835"/>
        <c:crosses val="autoZero"/>
        <c:auto val="1"/>
        <c:lblAlgn val="ctr"/>
        <c:lblOffset val="100"/>
        <c:noMultiLvlLbl val="0"/>
      </c:catAx>
      <c:valAx>
        <c:axId val="17356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34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EAA-DE9E-4113-B522-CF2EAFE8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203-EBE3-4611-9304-24818B0C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134-DA35-48D8-9402-4B8C8B85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4B4-11B3-491B-8684-51FB200C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A45-C6D8-489E-8A81-0027AF1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3CE-4E68-47A9-81E6-F6BFB4B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1BC-CE5A-4D6A-AF93-FFA1568D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CEE-F7F6-4FD4-8D8F-CDCC911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6AC-FB81-40F8-A291-FA46DDC8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3FD-EAE0-4CE1-9A7A-B2C319B2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551-7BCC-4C57-81CA-5C40A240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94C-4AEB-4494-BB81-E397B1D4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D33CB-210C-435E-9313-9DAF89ED59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