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60751"/>
        <c:axId val="1333926"/>
      </c:barChart>
      <c:catAx>
        <c:axId val="65160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3926"/>
        <c:crosses val="autoZero"/>
        <c:auto val="1"/>
        <c:lblAlgn val="ctr"/>
        <c:lblOffset val="100"/>
        <c:noMultiLvlLbl val="0"/>
      </c:catAx>
      <c:valAx>
        <c:axId val="1333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60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EE8-D06C-4DFA-A543-49303455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2B9-02F9-4246-947B-2001402B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343-7568-41EF-9330-8A85D667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3EE-55BA-49FB-BD65-D899567B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E5F-808C-403E-9448-FEC62EFA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7F8-6348-4509-B344-946502D2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059-78DF-4CBB-A31A-70E9E29C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13B-E563-4D75-85B7-6B26205E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568-4AE4-47FE-A228-50316B19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FBD-EDDB-40CE-8870-3E999611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5EC-1298-4CB6-A915-9B70145F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FE9-E0E4-49C3-8FA0-2AD90A0D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CD5AF-B213-4129-AB2F-02B3EFEA5F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