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65353"/>
        <c:axId val="37864369"/>
      </c:barChart>
      <c:catAx>
        <c:axId val="57965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4369"/>
        <c:crosses val="autoZero"/>
        <c:auto val="1"/>
        <c:lblAlgn val="ctr"/>
        <c:lblOffset val="100"/>
        <c:noMultiLvlLbl val="0"/>
      </c:catAx>
      <c:valAx>
        <c:axId val="37864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65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47A-66E6-497C-820D-21F36969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1DC-A960-43C6-96C3-0682ADA7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E28-F718-4A7E-83B5-BF6368A5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CEA-8310-4867-BB94-6609A5DF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564-F0F8-41AF-856E-8669E4D0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287-86B1-4FC9-93F8-CEC80ABF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A1C-EEB9-4A48-B025-E3CAEBA7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E82-E5B0-431C-8C8B-46E14727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1F7-3917-4629-9734-3E51AF4D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2BF-7477-4F61-824F-68452677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C6E-9128-4EB4-8A7D-FA50B69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772-4708-46F9-AD75-6E4304D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290E6-C456-49AC-9E85-3293228EB9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