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44016"/>
        <c:axId val="86736630"/>
      </c:barChart>
      <c:catAx>
        <c:axId val="464440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36630"/>
        <c:crosses val="autoZero"/>
        <c:auto val="1"/>
        <c:lblAlgn val="ctr"/>
        <c:lblOffset val="100"/>
        <c:noMultiLvlLbl val="0"/>
      </c:catAx>
      <c:valAx>
        <c:axId val="86736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440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29D-AF89-4DDC-86EA-8FCF9278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8784-4235-40D0-8A31-B1A3CFB0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738E-42BB-4C78-9A35-B33E51F9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59F-5F7E-4811-ACB4-4F6BBA03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E7EE-03F5-4E82-B508-D2D074E6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FE5-2F9B-4FBC-BC18-A85396A3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EE4-398B-4ECD-8D67-F2966FAB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B51F-729B-4B4F-BA6B-3892B567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BFD-7EE1-465B-AD5A-E7971612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9AF-655C-49F0-9DEB-E0FA8F96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578-FFAE-4A75-9C46-E0E14978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2D7-1288-464B-BF1F-72CF7C51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FA862-3BAB-429E-851D-FF071472E6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