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11525"/>
        <c:axId val="74887973"/>
      </c:barChart>
      <c:catAx>
        <c:axId val="77711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87973"/>
        <c:crosses val="autoZero"/>
        <c:auto val="1"/>
        <c:lblAlgn val="ctr"/>
        <c:lblOffset val="100"/>
        <c:noMultiLvlLbl val="0"/>
      </c:catAx>
      <c:valAx>
        <c:axId val="74887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11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5AB-957F-492D-AAD1-09827CD8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0CD-D6D8-47DB-A56D-6087A82B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1D3-8B46-44EB-AAA3-9BF59CF8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D88-7ECF-4DE4-9E2E-BE4488A3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5CA-9837-434D-8D61-5813095E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B2A-88DD-4C17-8395-9FD65B34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749-7231-4C82-894D-9423EBB9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269-8ADC-49F7-B29B-F7E62137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39D-7575-4FE0-AB81-A53033FD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F28-455F-4949-98EC-1F7B6BE9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122-ED67-4B85-9224-F074B9F0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F1E-78AF-420D-84CF-BDABC0A1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37FB3-8373-48F7-ADF7-1FDC9EBDC7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