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27358"/>
        <c:axId val="50048488"/>
      </c:barChart>
      <c:catAx>
        <c:axId val="455273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048488"/>
        <c:crosses val="autoZero"/>
        <c:auto val="1"/>
        <c:lblAlgn val="ctr"/>
        <c:lblOffset val="100"/>
        <c:noMultiLvlLbl val="0"/>
      </c:catAx>
      <c:valAx>
        <c:axId val="500484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273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A7C-4F8D-42DE-851B-5A71F576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C859-AC2E-438B-9390-58940B80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2791-9CD3-43A5-AA5F-8F6C6DF96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3BA4-F55B-41D8-BF2C-5A83DCA66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B7CD-11DF-49FB-8167-6836610C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49CF-2C0F-4A00-99CB-5357BB435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216D-0838-4082-BDC1-142ACA577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4466-2F4F-4B8F-8DA4-DE883F690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4C9-8593-45A1-BB37-4007CBD3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3E17-93E6-4F8B-B121-73A745EF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FB60-1FDB-428E-98EA-36E9A5270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48F7-D23D-4BEE-8F6E-BCF6A5FA3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BA82AC-8509-41ED-9A86-2916F6F74B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