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12061"/>
        <c:axId val="41032347"/>
      </c:barChart>
      <c:catAx>
        <c:axId val="18412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32347"/>
        <c:crosses val="autoZero"/>
        <c:auto val="1"/>
        <c:lblAlgn val="ctr"/>
        <c:lblOffset val="100"/>
        <c:noMultiLvlLbl val="0"/>
      </c:catAx>
      <c:valAx>
        <c:axId val="41032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12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DA2-EF8B-4877-8F4C-1A2F3149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1FF-79FE-4331-82C8-F55F2087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C73-86F5-4597-8F80-A3AE2FEA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499-3AAE-41E2-9275-FB5E43C4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7A2-0AF5-4225-BAE0-BC2C516D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DE7-DB83-44CA-BA6C-D4140E68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B7D-125C-41C1-B455-F549A02C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33E-55EF-431F-AA26-785C2686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FC8-985B-4F33-AAEA-343D5061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C9B-31B6-427E-80CB-139EC602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263-92F7-4E9E-A9B4-C3BD7421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01C-3233-4041-BBD5-AB3482F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6C6DF-85CC-443A-A5B5-375EF92409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