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8516"/>
        <c:axId val="59594935"/>
      </c:barChart>
      <c:catAx>
        <c:axId val="4228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94935"/>
        <c:crosses val="autoZero"/>
        <c:auto val="1"/>
        <c:lblAlgn val="ctr"/>
        <c:lblOffset val="100"/>
        <c:noMultiLvlLbl val="0"/>
      </c:catAx>
      <c:valAx>
        <c:axId val="59594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8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A5B-1F27-4F04-9708-0ACA211B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F3B-0A30-4793-9A91-EB5F9C80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163-0A43-4D96-9119-B78A6D92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FF0-087F-461A-A9CE-3350E85A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F1C-6FF8-4A15-A3F4-2F750A45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D53-285E-4AB2-81CB-495F98C3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845-2547-4488-BFC0-6CAEA38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E81-63BF-411E-9136-5D7177C0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034-E04B-460E-9077-310640AC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8A4-4D2F-474B-899C-CEC15E84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20C-2F16-4BDE-911D-9AEEEE01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9F5-3F08-4C80-9BFE-CCFFF62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F6C7B-226B-495A-A295-2C88BC3F6E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