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3599"/>
        <c:axId val="42407491"/>
      </c:barChart>
      <c:catAx>
        <c:axId val="2673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07491"/>
        <c:crosses val="autoZero"/>
        <c:auto val="1"/>
        <c:lblAlgn val="ctr"/>
        <c:lblOffset val="100"/>
        <c:noMultiLvlLbl val="0"/>
      </c:catAx>
      <c:valAx>
        <c:axId val="42407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3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9B2-400B-4434-860F-DBFA9E79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AD2-8543-442A-824F-820408C1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196-82D2-4C58-A503-18097B91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878-FDF2-47FB-97AA-52928C0A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C00-701C-4A43-B04B-A4A4FB72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9CB-93A6-499D-BBAE-0D718C86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724-BA61-4070-9322-C75EF835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225-216F-4686-927E-A7F5CFC1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581-4833-4699-94FB-E0461050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790-C66E-4F80-B201-8AD34801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76E-9B7D-4B2C-B13F-D3EE70A1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7CE-98B8-4F92-AA0F-C702B919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FE519-C601-4A6A-8458-CE7DE09FB8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