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68529"/>
        <c:axId val="80938348"/>
      </c:barChart>
      <c:catAx>
        <c:axId val="58968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38348"/>
        <c:crosses val="autoZero"/>
        <c:auto val="1"/>
        <c:lblAlgn val="ctr"/>
        <c:lblOffset val="100"/>
        <c:noMultiLvlLbl val="0"/>
      </c:catAx>
      <c:valAx>
        <c:axId val="80938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68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EEE-A2D6-4D97-9096-2B40CE8F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D47-2F4B-4C9F-AD31-956C155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F28-8ABE-4E07-AECD-8BE2F45B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150-0E0B-427C-83A3-EE4850CB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19F-661B-428E-A63F-92A9BFE4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F27-E96D-40DB-9035-4CF5427C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C4C-EEC4-4D71-A089-EB779DA9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2CA-C021-417B-938B-52210776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663-D520-4B7E-B2EB-95BFD8E4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2CD-540A-41DE-BA55-1946AC5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63D-0A15-43D8-8E02-64022F22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FE4-A42F-45AA-99FD-DADD2EEE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79072-C56D-4B6F-BE0F-5955D315F6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