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9154"/>
        <c:axId val="65161683"/>
      </c:barChart>
      <c:catAx>
        <c:axId val="1859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61683"/>
        <c:crosses val="autoZero"/>
        <c:auto val="1"/>
        <c:lblAlgn val="ctr"/>
        <c:lblOffset val="100"/>
        <c:noMultiLvlLbl val="0"/>
      </c:catAx>
      <c:valAx>
        <c:axId val="65161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F3D-23F3-43C5-9221-8E1227AD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49F-50D2-4D69-8968-33B90C06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033-D8F4-490E-A02B-F870D87B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DFE-B57E-454E-8E4A-389A2F97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F06-3EF0-4567-AFDA-7DFEB142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DF7-3B20-4F50-8786-490F766A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829-E8DD-4D7E-A656-93E6BF50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8F8-9A14-469F-AB4A-03C8EB72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2C4-826E-459B-9A5E-00D1BC6C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5A2-F2DC-47AD-A0F0-98C5575D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A5E-55E9-446E-BB32-D8B87071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E12-1ECE-4974-9331-29EB7FD1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C9635-CB04-4E91-8727-56159DE001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