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17461"/>
        <c:axId val="97909249"/>
      </c:barChart>
      <c:catAx>
        <c:axId val="50217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9249"/>
        <c:crosses val="autoZero"/>
        <c:auto val="1"/>
        <c:lblAlgn val="ctr"/>
        <c:lblOffset val="100"/>
        <c:noMultiLvlLbl val="0"/>
      </c:catAx>
      <c:valAx>
        <c:axId val="97909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17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F74-6AD4-4AA9-B08F-DD87EC25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156-46E5-4E61-B532-6C97B14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04F-D93E-40D5-AA92-E3C90000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2CA-6F3F-4241-87C4-4E58667C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346-3D10-41A6-A5D8-1E7D35F2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C3A-8B7F-4A31-9486-04D0A07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CEF-87FE-4288-A4C8-6A486C5D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2A4-B96A-4046-AEBA-6439E33B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AA6-CFA7-45C1-96BB-B3C99DA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839-1AB2-41EC-B5B7-77D7F7A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D30-AABC-4928-B898-B37DB5C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D9F-E212-4B3B-A0DD-5BB48BE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1C05B-AEEC-49FE-83B9-2C28071680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