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000262"/>
        <c:axId val="43101026"/>
      </c:barChart>
      <c:catAx>
        <c:axId val="730002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101026"/>
        <c:crosses val="autoZero"/>
        <c:auto val="1"/>
        <c:lblAlgn val="ctr"/>
        <c:lblOffset val="100"/>
        <c:noMultiLvlLbl val="0"/>
      </c:catAx>
      <c:valAx>
        <c:axId val="431010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0002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1871-F35E-408C-B475-809D1EECB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CC92-769E-452D-B0C3-6AD0E5D9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1E80-14DD-4B26-A595-302292E17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7426-9DB6-44C3-8F68-92FC3E12E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4EBF-54FA-44AA-8015-C72BCF8F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4ED4-7A6C-47CC-B23A-498A1B81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2420-F0D6-4A67-A747-94101F45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BA43-AE27-4C02-8EC5-767FAD73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7B4E-3DA5-45AC-B7B4-18FA1F41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0880-1720-411A-ADF7-6CFFB55B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7E48-32B1-4AF9-9A87-88911DEC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5101-CFC2-4A63-A277-327A4720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BB0D2B-6026-40BC-9137-5B5F26FBE7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