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728657"/>
        <c:axId val="23331420"/>
      </c:barChart>
      <c:catAx>
        <c:axId val="617286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331420"/>
        <c:crosses val="autoZero"/>
        <c:auto val="1"/>
        <c:lblAlgn val="ctr"/>
        <c:lblOffset val="100"/>
        <c:noMultiLvlLbl val="0"/>
      </c:catAx>
      <c:valAx>
        <c:axId val="233314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7286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736F-C045-4807-A12F-0846A53E2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7CC7-CCE5-4171-884E-841AD3974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D041-7C86-454B-ABEC-E120C679D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7204-8148-4E4F-9771-C26607327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6928-0E75-491E-952F-7A1ECE54E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FE84-4EB1-4550-AA52-6D0FC67A1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CD33-F99E-4842-BE10-35B6EE7B8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7876-0FC9-449B-BB28-827A09107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9900-43B2-48E8-A664-6E74A9A44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F489-D8C5-48D2-9147-7877348C5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48B3-2566-4C5A-92DB-50188E86B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6416-8396-4B2C-8BD6-AABCFFE4C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AB4534-87EC-42E1-AAEF-5611A8D7734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