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55144"/>
        <c:axId val="98529122"/>
      </c:barChart>
      <c:catAx>
        <c:axId val="80155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29122"/>
        <c:crosses val="autoZero"/>
        <c:auto val="1"/>
        <c:lblAlgn val="ctr"/>
        <c:lblOffset val="100"/>
        <c:noMultiLvlLbl val="0"/>
      </c:catAx>
      <c:valAx>
        <c:axId val="98529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55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AAC-3ACD-4C96-BA49-714A662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398-F65F-4C59-8656-6FA07A94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A93-563F-4EE5-A95F-3F7DD567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9F3-B004-46D7-8093-2F229A1E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145-D6A9-4210-AF42-EF05FCE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20D-60C0-45CA-B501-826F078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97A-2E32-411A-BE5C-7E02C6F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26B-512D-4D17-8DA9-B75850B8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0E3-38DC-47B6-96B6-DA29AE6B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C76-B621-4A5D-A363-92174AA6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760-9193-4985-B028-804EC9D4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6A4-D260-4304-B986-16F58EF4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63AC-9F47-4577-9044-69ADE9632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