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90223"/>
        <c:axId val="15508353"/>
      </c:barChart>
      <c:catAx>
        <c:axId val="80390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08353"/>
        <c:crosses val="autoZero"/>
        <c:auto val="1"/>
        <c:lblAlgn val="ctr"/>
        <c:lblOffset val="100"/>
        <c:noMultiLvlLbl val="0"/>
      </c:catAx>
      <c:valAx>
        <c:axId val="15508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90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4FC-6B99-43C9-AA55-3D434CB5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57B-41F2-4DD6-AC24-4AB5C932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41B-6BC8-473F-A349-3FEC305C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495-15C9-4937-B082-16824044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8F1-DA27-47E4-83B0-5F6E16AC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C94-3A5E-4195-9C7C-14AC908D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795-7B86-442C-B9D6-912AE3A6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E03-2EA5-44D9-9F65-9475B13E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00F-0078-4C54-B18C-ABDC925D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D12-5F2F-4985-BFE7-5A803777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410-17FF-4134-A54E-F0038E76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3A9-A6A2-4DC6-8595-EEE6502F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6A126-3FEA-43C4-A08A-DE9F463F42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