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84256"/>
        <c:axId val="33339805"/>
      </c:barChart>
      <c:catAx>
        <c:axId val="81784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39805"/>
        <c:crosses val="autoZero"/>
        <c:auto val="1"/>
        <c:lblAlgn val="ctr"/>
        <c:lblOffset val="100"/>
        <c:noMultiLvlLbl val="0"/>
      </c:catAx>
      <c:valAx>
        <c:axId val="33339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84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05B-8D17-4CDF-8C50-3A32A66F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577-1194-4866-A8D3-BBC0FDFD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470-7C64-454E-B2D7-30638980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738-6BED-4C9F-BA1B-1279B92A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8E2-D4AA-44CE-8A02-32A78EBA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923-7407-4928-83D2-CF7E054A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FD0-50E4-4E7C-ADD3-92A536DE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532-5EC6-4562-A36A-16805A39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9CE-E429-491C-BD23-AA1CDA91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86B-722B-494D-9137-FA1A0E9B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8C2-13D8-4A37-BFC0-6DBE734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F5E-7E68-4F81-8B95-409B999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8125A-6985-463D-A6E4-43623C2D00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