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11055"/>
        <c:axId val="52815183"/>
      </c:barChart>
      <c:catAx>
        <c:axId val="851110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15183"/>
        <c:crosses val="autoZero"/>
        <c:auto val="1"/>
        <c:lblAlgn val="ctr"/>
        <c:lblOffset val="100"/>
        <c:noMultiLvlLbl val="0"/>
      </c:catAx>
      <c:valAx>
        <c:axId val="528151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110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8C67-AE07-4A7D-A084-BBCCBEFC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A08F-1BB8-4114-A4BB-9BCF2010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C74-1A76-4EC0-9F0E-8C8AED7E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BA8B-5769-4A45-9CA0-85056D86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DB2-DF46-4D91-8983-79671FFC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2FD3-62C0-45BF-8138-CDE7B99A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B787-6969-42C6-A951-0FBC258E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DE07-7FEB-4966-92DD-73CD4662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A003-13B9-4146-B13D-E1787836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D719-4D59-47B1-BC50-295440B4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89DF-3014-430D-925C-4B764976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101F-120E-42A7-87D2-DDB681C4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7FAF1-EE11-4C22-A893-FC45FA1627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