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54446"/>
        <c:axId val="20935092"/>
      </c:barChart>
      <c:catAx>
        <c:axId val="20954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5092"/>
        <c:crosses val="autoZero"/>
        <c:auto val="1"/>
        <c:lblAlgn val="ctr"/>
        <c:lblOffset val="100"/>
        <c:noMultiLvlLbl val="0"/>
      </c:catAx>
      <c:valAx>
        <c:axId val="20935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4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EB8-9F49-4AE2-B11F-2FE7758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88E-7E6B-445E-A143-EAF9185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648-AC14-42D2-9449-B7AF05E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EEC-34A8-4B81-A69E-DC773078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8A9-9C20-4BE6-86AE-5CBD31F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FA7-4504-4AF0-9E10-A911E763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617-2F50-4FCF-8A1D-C121DD78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A53-99B3-4932-883B-BFF02BC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E7A-6BDA-42FB-88C9-357DFF5F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0FA-2818-414F-8CA2-40CBABB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DE5-4B26-41AB-91C7-1EB1E9A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897-C018-4FEA-932D-C00241F3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F6DEF-6EBF-40E1-AD3A-0EF5F3188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