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02400"/>
        <c:axId val="29556366"/>
      </c:barChart>
      <c:catAx>
        <c:axId val="73802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56366"/>
        <c:crosses val="autoZero"/>
        <c:auto val="1"/>
        <c:lblAlgn val="ctr"/>
        <c:lblOffset val="100"/>
        <c:noMultiLvlLbl val="0"/>
      </c:catAx>
      <c:valAx>
        <c:axId val="29556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02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BB2-F880-40E8-8E6E-A9CAC4C0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85D-164C-466B-9B99-F0AF6C1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C37-F035-4ECE-B275-5F31D1AC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B5E-BAA6-4967-B50E-BE993C54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0D8-26EF-4BC9-B0D3-76B34DC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C7C-97EA-473E-A9E2-445E5D98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0AD-F06D-4B2C-A60C-D6024599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7D3-8379-41BC-831A-8B497E63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A2B-E8F8-4782-A3FF-8720BCBA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C78-A315-4932-97D1-EF586C18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70A-34F3-4978-895E-3E9D1082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0E0-685A-4FC7-81BC-FB1ACDE7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E8BCF-9ED0-4CB6-A623-3A7F4D430A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