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85288"/>
        <c:axId val="69747464"/>
      </c:barChart>
      <c:catAx>
        <c:axId val="80885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47464"/>
        <c:crosses val="autoZero"/>
        <c:auto val="1"/>
        <c:lblAlgn val="ctr"/>
        <c:lblOffset val="100"/>
        <c:noMultiLvlLbl val="0"/>
      </c:catAx>
      <c:valAx>
        <c:axId val="69747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85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05B-7BA6-4B87-BD94-B84D9F0E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714-1D8E-4B91-B7AA-7373FB91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2AA-8DB8-4C22-A78D-ED2AF3AD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EF0-35D5-4C10-AD54-C26C870D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303-B2C0-4F29-ADBE-09E3B55D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5F3-34C5-4AAF-9A6D-41BD56F1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20C-B365-4D8C-A5C1-0D39C238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250-EEC9-483C-B231-3954651E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DEB-B469-4955-A4EA-CA1B8636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73D-A5CB-46FF-A050-FE880B4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93D-7BE3-4E29-B9BB-AE6BB559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82F-58C6-4A42-AB43-D28BB9A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F787D-0798-4943-A2AA-FB068BAA61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