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19113"/>
        <c:axId val="13902559"/>
      </c:barChart>
      <c:catAx>
        <c:axId val="68519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02559"/>
        <c:crosses val="autoZero"/>
        <c:auto val="1"/>
        <c:lblAlgn val="ctr"/>
        <c:lblOffset val="100"/>
        <c:noMultiLvlLbl val="0"/>
      </c:catAx>
      <c:valAx>
        <c:axId val="13902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19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328-4441-47FB-AC3A-FD235CE7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8C2-6F67-4210-82B6-952C5E23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4A4-DF9D-4AC8-9454-3F2A042B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598-0A96-4A03-B359-AFB248C5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373-CDBB-4CB0-930F-8934327F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0BC-F876-4FCB-AC89-7FA68E27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648-9EC8-4890-8302-7E77DD3B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4D2-215C-49CF-9B99-6D9B37C9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898-B8E5-4051-B5D2-C03FC36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F67-69F4-4A1E-87FC-93498808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501-1A7C-4E74-BF8A-82F60F65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06D-5E4B-4C1C-A3C1-23E027C8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C5A9A-3AFB-4562-B552-13AE192589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