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01222"/>
        <c:axId val="46808838"/>
      </c:barChart>
      <c:catAx>
        <c:axId val="66801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08838"/>
        <c:crosses val="autoZero"/>
        <c:auto val="1"/>
        <c:lblAlgn val="ctr"/>
        <c:lblOffset val="100"/>
        <c:noMultiLvlLbl val="0"/>
      </c:catAx>
      <c:valAx>
        <c:axId val="46808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1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15E-B978-47C5-B2F0-F573AD79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470-4F65-4382-B9DE-DD8FE66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8B8-A609-4436-8BAA-08D3A987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4DE-79D7-4E82-8D87-8ACA0CBD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A3A-F6FD-41EA-B14F-203725F7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EBC-F891-48AD-90C6-826A6CF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B72-0AF0-4411-8DC8-752196B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97C-7AFA-4F7D-ABC4-46DE2827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D91-EDC6-4A82-8608-4382395A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6FA-AE52-4ED1-9F73-67A61BB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3F3-4AA0-4CD2-B7E7-9F0E34D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F7A-7432-48C0-B281-087AAE6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A9FF9-383C-4F0F-9C2E-3DE91C467F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