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81304"/>
        <c:axId val="24706860"/>
      </c:barChart>
      <c:catAx>
        <c:axId val="48281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06860"/>
        <c:crosses val="autoZero"/>
        <c:auto val="1"/>
        <c:lblAlgn val="ctr"/>
        <c:lblOffset val="100"/>
        <c:noMultiLvlLbl val="0"/>
      </c:catAx>
      <c:valAx>
        <c:axId val="24706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81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E25-C3C7-4910-BD17-5B1FA6E3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853-1155-44EC-B436-5FE45F37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F23-8340-43EF-8A64-81BD859B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05D-CCDF-4577-938A-10841FF4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066-3A28-46A2-908C-32792F03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7AD-58EE-4F2C-8EC0-5D767851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76D-D5CD-42B4-9F5F-7A941591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E66-B8DF-45FB-9491-66348F50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1E9-EBB6-45BD-99F2-B0CF760C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544-96A5-468B-8767-B3417FB3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9CB-E5B6-492E-9369-29807953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C9C-B0F8-4DEB-865C-6CB8456B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F9FD8-0DA7-488B-8363-3A52992404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