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76230"/>
        <c:axId val="73886084"/>
      </c:barChart>
      <c:catAx>
        <c:axId val="33176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86084"/>
        <c:crosses val="autoZero"/>
        <c:auto val="1"/>
        <c:lblAlgn val="ctr"/>
        <c:lblOffset val="100"/>
        <c:noMultiLvlLbl val="0"/>
      </c:catAx>
      <c:valAx>
        <c:axId val="73886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76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915-0C04-497B-89D3-9B99F32F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555-29A2-45CD-993F-5A8692F3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351-75BB-4134-BFF4-0B4C6260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684-2061-4114-AECD-BAF17D3A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1CD-B5FF-4E54-809C-6B66034C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374-9416-4FD7-B438-7EEBC93D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3EC-7E10-418B-824B-89D67C0F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E05-4A09-401B-8219-5B858973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B2B-ACCD-4392-86EC-D9E1CFA0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FA7-1A30-4C57-A052-7EF634E4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161-7B2E-434A-9287-D103B6FE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786-BAE3-4A6B-B8B0-B1224491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58879-044C-4C4D-B688-93FCE677F5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