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13829"/>
        <c:axId val="91970226"/>
      </c:barChart>
      <c:catAx>
        <c:axId val="29213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70226"/>
        <c:crosses val="autoZero"/>
        <c:auto val="1"/>
        <c:lblAlgn val="ctr"/>
        <c:lblOffset val="100"/>
        <c:noMultiLvlLbl val="0"/>
      </c:catAx>
      <c:valAx>
        <c:axId val="91970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13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357-9DEB-42DE-9FBE-39B8FBF2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706-7AF0-40FB-89C8-4BE66F1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BD6-08E5-41E1-BC83-6C2204E1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47A-C317-40AB-8BE1-D3C7EB2E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92C-04C7-4871-87AF-B9DC88D6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DB7-5CA2-4CF0-91E7-0DD9F30E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D62-5E6B-490E-BD5C-D0CAB281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E74-96FD-4A6D-8B04-DE625495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4C4-BA05-4CB9-94E6-56E93681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183-F139-4F27-A074-3A1FE96E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3D4-E6E8-48E0-9304-CDD0633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31D-5CF5-441A-BF72-D39BBEA8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BCBCA-79E4-4A66-BAE6-34BF8FCD6B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