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17277"/>
        <c:axId val="50349732"/>
      </c:barChart>
      <c:catAx>
        <c:axId val="68717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49732"/>
        <c:crosses val="autoZero"/>
        <c:auto val="1"/>
        <c:lblAlgn val="ctr"/>
        <c:lblOffset val="100"/>
        <c:noMultiLvlLbl val="0"/>
      </c:catAx>
      <c:valAx>
        <c:axId val="50349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17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2E0-FE83-4AA4-AF60-90E32254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3B3-D64F-469E-918C-E4872D05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F80-4D90-4C89-9A2B-EA939C13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CC5-1D21-44F9-AE10-BDD538FD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805-72EB-4261-AE29-83BE54A0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CBA-959D-4A2F-87FA-73E147E1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0FB-4F1C-41A3-80BC-A96D6BC1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D50-26DC-4FA3-BC7A-C8BF72AE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14C-3D1E-4351-A887-76ECEE69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6CC-2D6E-4782-82B3-EBA5D2BD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630-0E23-4185-9F66-2AA9557C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514-6F12-4A75-BCF8-4F4AB19D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375B3-EE46-427D-905D-7E2D5B7620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