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3307"/>
        <c:axId val="42343972"/>
      </c:barChart>
      <c:catAx>
        <c:axId val="1323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43972"/>
        <c:crosses val="autoZero"/>
        <c:auto val="1"/>
        <c:lblAlgn val="ctr"/>
        <c:lblOffset val="100"/>
        <c:noMultiLvlLbl val="0"/>
      </c:catAx>
      <c:valAx>
        <c:axId val="42343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B5C-B40E-4EAF-ACFC-1D0CFD08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DC9-C989-4928-B4AB-F0978AC9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2F0-FC96-4207-A315-4F06D354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B74-8319-4769-9E9E-750336CC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001-1D06-4721-9D7C-293EDB65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FB8-D4BE-442F-A48C-64AD15F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D21-5EE9-4A1C-88F0-A3573E7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7D7-8406-4105-94D7-14ABB036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C5E-399A-4362-82F0-E638776F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C38-BAF3-4D2C-8EDE-929C247F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018-CBAD-4417-A2A1-B443F58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5A6-2089-4BE7-A555-98887DB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E2C73-FC90-4D3C-A0C6-A8B7BD6CC3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