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16091"/>
        <c:axId val="78515298"/>
      </c:barChart>
      <c:catAx>
        <c:axId val="30316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5298"/>
        <c:crosses val="autoZero"/>
        <c:auto val="1"/>
        <c:lblAlgn val="ctr"/>
        <c:lblOffset val="100"/>
        <c:noMultiLvlLbl val="0"/>
      </c:catAx>
      <c:valAx>
        <c:axId val="78515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16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8AB-C923-43BD-9421-6F0017B4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D8E-8A68-4247-A298-E2FD97ED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9C6-FFD4-4EF6-BC24-DAA12255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E7E-8381-4051-8F10-DA93E13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50B-502E-4B0E-9F4A-83552571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646-03B0-4190-80D8-8FEDCAE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092-8E99-430E-B387-E55473C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173-7794-46A6-B480-8D5F731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C00-43BC-4C36-AA6A-1A3CCD3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E82-62A3-4630-B279-3B686155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A86-52A0-4594-9745-68C8239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A48-B737-4EC3-A6B0-AC71D321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72099-9953-43A8-A9FA-6ED12C3CB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