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552896"/>
        <c:axId val="35550489"/>
      </c:barChart>
      <c:catAx>
        <c:axId val="805528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550489"/>
        <c:crosses val="autoZero"/>
        <c:auto val="1"/>
        <c:lblAlgn val="ctr"/>
        <c:lblOffset val="100"/>
        <c:noMultiLvlLbl val="0"/>
      </c:catAx>
      <c:valAx>
        <c:axId val="355504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5528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AA21-5FE6-48DE-980C-499EA8408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BB91-9E51-494A-B124-6E1B9CE45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7F44-6D84-4207-9F9C-5EC151F03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3715-02B0-4DC3-B2E3-31989CDD9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E634-07ED-4CBE-8FAA-6B192154A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7ED8-6A77-4349-9EF9-CD4225209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EA43-A706-4088-BCE7-95CAA272A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3B29-846B-4E49-943E-19C18044F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F36D-F6C7-4377-AC8F-0655FB07C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AC0A-4EE7-4C35-A864-0A95DF3F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0997-9062-4133-AA15-DFAD6BB0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72CF-09A6-46CF-9253-FB5BA526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FA9055-761E-4ADE-891C-4D83DB4633B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