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934266"/>
        <c:axId val="12300260"/>
      </c:barChart>
      <c:catAx>
        <c:axId val="249342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300260"/>
        <c:crosses val="autoZero"/>
        <c:auto val="1"/>
        <c:lblAlgn val="ctr"/>
        <c:lblOffset val="100"/>
        <c:noMultiLvlLbl val="0"/>
      </c:catAx>
      <c:valAx>
        <c:axId val="123002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9342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1530-C89A-41C2-96EE-330E44417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7DB4-5CAA-4F0F-8879-6A947B508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933E-8B32-4E99-922A-07F6770BF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205A-86C4-49F5-99C5-314B5EBF1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1C82-AA40-41A8-B6CD-ABC5F3992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DF64-1F01-40E9-9764-31B5F251C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15DE-B0C0-4F0D-9734-B7739EFF1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361E-6E6F-4758-B854-F7D215F19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CB48-09EA-46E8-9F2F-90F432642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D2BF-ECDB-4CF4-A30E-5DB22C572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D82D-DD46-4E4E-A084-A6EF406ED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9E8A-D589-494C-B790-7DB331E1A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BA6FAD-AA41-4226-AA59-6C43570DBE6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