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38575"/>
        <c:axId val="44647256"/>
      </c:barChart>
      <c:catAx>
        <c:axId val="97038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47256"/>
        <c:crosses val="autoZero"/>
        <c:auto val="1"/>
        <c:lblAlgn val="ctr"/>
        <c:lblOffset val="100"/>
        <c:noMultiLvlLbl val="0"/>
      </c:catAx>
      <c:valAx>
        <c:axId val="44647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38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42B-C0B5-47E4-9ADB-46E01FDB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B43-E4B5-4A8D-8EA7-205BFDE5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FBC-4539-4B55-BCB7-3EAFC8D8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958-CCF4-4BF7-90D8-31E8F895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625-96B2-4237-80E7-12458834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FFE-D8FB-4F9C-BD8E-CEFEC040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5E4-9E9B-445B-AFE6-D6FCF59A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DC0-8713-4404-B9EC-A1784269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65C-6449-4419-AE69-103B9C7C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60A-25F0-4639-AEEF-6A4EB61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D412-92D4-4F2B-85CF-1ACA7D63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5D9-2762-415F-B919-DD50CAEA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B2FE0-C004-4C0F-AF8A-9665FD00DA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