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846180"/>
        <c:axId val="75671021"/>
      </c:barChart>
      <c:catAx>
        <c:axId val="608461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71021"/>
        <c:crosses val="autoZero"/>
        <c:auto val="1"/>
        <c:lblAlgn val="ctr"/>
        <c:lblOffset val="100"/>
        <c:noMultiLvlLbl val="0"/>
      </c:catAx>
      <c:valAx>
        <c:axId val="756710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8461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EB8-0373-4B79-AB1F-C867A0ED9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437B-EC30-4674-A6BA-E3C6AD691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26A6-0EBD-4D62-9547-855F66B3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D4E-A598-4292-B2A1-865CCBDAA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B9C9-F199-40BD-8A12-C160EFD1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7A2-CD8A-453A-898F-2E8BB513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B96E-7971-41FD-B451-DE04683B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A90F-9068-4B82-BAEE-897327B8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D889-F07D-4AA5-9D33-1BCD2CB45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160-EBC9-46C9-AF9C-25DC9BEF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710-A0FD-4861-9ED1-E5A1F7B4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CF3-15D9-43D4-8AEB-179DE498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35DFA-D39B-4EC8-B7AA-BB7F4003B6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