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1674"/>
        <c:axId val="99287428"/>
      </c:barChart>
      <c:catAx>
        <c:axId val="40111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87428"/>
        <c:crosses val="autoZero"/>
        <c:auto val="1"/>
        <c:lblAlgn val="ctr"/>
        <c:lblOffset val="100"/>
        <c:noMultiLvlLbl val="0"/>
      </c:catAx>
      <c:valAx>
        <c:axId val="99287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1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3D2-F1CE-4F05-B2C4-38A23437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D73-107B-45FC-B2F8-492EB52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393-6C9C-4B40-B2A1-6B9E65E9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0D7-3A2C-43AF-B971-34FD56D5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207-12F2-43E1-A0BA-AF2A539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50F-9F9C-44C6-8146-3DFAC5F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CF0-D425-4E10-A457-D7C2A94B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312-A3D4-4E02-B7A6-8C62F8CC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5A8-A6FD-4CBD-A559-4737B7A3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9D1-A9D7-494C-AA52-204E07A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EB9-1B02-446B-820D-5E863D1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564-F77C-4364-8B9C-C045AC27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AD931-61EF-4E92-808B-A7EC944C8F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