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90058"/>
        <c:axId val="16035082"/>
      </c:barChart>
      <c:catAx>
        <c:axId val="59790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35082"/>
        <c:crosses val="autoZero"/>
        <c:auto val="1"/>
        <c:lblAlgn val="ctr"/>
        <c:lblOffset val="100"/>
        <c:noMultiLvlLbl val="0"/>
      </c:catAx>
      <c:valAx>
        <c:axId val="16035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90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E6E-BE2E-4B73-A5CD-D240B747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8DC-D6C1-4876-B285-A909E3CA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840-C124-4B40-886F-0999A4D8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DFD-3C45-45E3-8F5B-7BCB373B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658-BD48-462E-81DD-8D50D3C1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E19-29F4-4723-9554-68C98A81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9AC-68E5-478A-996E-1A1B79BC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5B3-D52F-4BCF-A6E3-4696316D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B65-47C6-4C07-B7FE-05145673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D38-8194-42F3-8FED-EF719740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416-18E2-476D-B2B8-0AC864DA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644-E6B7-46AE-9175-C04E3F93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245B4-8166-4D7E-9ED9-75169913F2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