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9933"/>
        <c:axId val="82518224"/>
      </c:barChart>
      <c:catAx>
        <c:axId val="25189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18224"/>
        <c:crosses val="autoZero"/>
        <c:auto val="1"/>
        <c:lblAlgn val="ctr"/>
        <c:lblOffset val="100"/>
        <c:noMultiLvlLbl val="0"/>
      </c:catAx>
      <c:valAx>
        <c:axId val="82518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9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A38-B2D4-4490-894F-8C1D8FD0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579-6F4A-46D6-B4D4-A422771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4C7-CFE4-4777-8FBF-5E19CCA9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997-725F-4028-89D9-280F4440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101-582C-43CE-9F26-21352B62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142-E8A0-4244-945A-51FD220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67B-90B8-4767-B093-093034BA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9D3-05CE-4779-9503-22BC492D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EDE-E639-4A0E-A463-FC2299B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7A2-F1F6-4B8A-B292-D483D525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332-AFBE-4C1C-9D81-A6E224F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655-AABC-4661-B078-81B41BB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2E6D-A8E1-4AAB-AE3F-6F8C451F7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