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93685"/>
        <c:axId val="74884609"/>
      </c:barChart>
      <c:catAx>
        <c:axId val="18493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4609"/>
        <c:crosses val="autoZero"/>
        <c:auto val="1"/>
        <c:lblAlgn val="ctr"/>
        <c:lblOffset val="100"/>
        <c:noMultiLvlLbl val="0"/>
      </c:catAx>
      <c:valAx>
        <c:axId val="74884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3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945-4062-4FF7-A102-77B9925A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92E-FA5E-48BF-976A-D3E6C14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00D-4BA5-4582-9B4D-09DB5A95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2E3-9F79-4282-8884-819CD0DD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414-EA0B-4555-B5BB-BDE5ABAE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B88-816E-48A4-9B81-D2F9461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5C9-7609-46BF-9EA1-9EC6DCC2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C9A-87EC-447C-B872-F079465C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D37-ADAA-4CBD-B139-22CCC6C7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D80-EE99-440C-95C7-472A673F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C3F-EA51-4C2E-BD32-89C99421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4AC-3C2F-4DD8-817C-77D4895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01A2B-7263-4BD5-8FFE-9558B31DC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