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76808"/>
        <c:axId val="53130620"/>
      </c:barChart>
      <c:catAx>
        <c:axId val="27876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30620"/>
        <c:crosses val="autoZero"/>
        <c:auto val="1"/>
        <c:lblAlgn val="ctr"/>
        <c:lblOffset val="100"/>
        <c:noMultiLvlLbl val="0"/>
      </c:catAx>
      <c:valAx>
        <c:axId val="53130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76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907-201E-4307-8DE1-357AE924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202-99C0-4A66-A5B7-F6E97195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9DF-B2A8-4FBF-B3BF-E52EF60C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997-C2E4-491B-9A41-61B8DA02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738-D36D-4E29-AC9F-560BD538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893-8E39-48F2-8D95-7C062490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C58-F4CE-4276-8E7A-0A3444FE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325-3626-4D68-BBF9-A9446681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087-8534-4418-A026-B08CF8B5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98E6-F01D-4CB8-80BC-0FB05AB3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C35-1229-44CA-A4F2-7708283E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940-5804-4AF9-AD8A-1BFEF33F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A0CC0-CB3B-40F6-9A36-D065C778BA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